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AA5-5FBD-4543-B013-9E450A6C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D28-B1EF-4714-9376-6346AF3F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F3A6-DE9D-4817-A76A-F2D3BFAE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37D6-52B1-42F3-B0CC-370AF950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227-B4E5-4705-86D6-3C51D021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F97-953B-46A3-930E-A13FBD32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D737-4D0D-4475-8D6C-0C0DC26F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592D-0ED2-40F8-8D89-06F55157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65F-0B7E-4DCD-A4CD-8BE4FEB2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0679-E4B0-4F01-88DD-8339396B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1FA-51F3-433C-8105-30CB722A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B82-27FB-4D95-9921-970430B9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4AB3-E80D-4027-BA8B-8E1A482F01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4"/>
          <p:cNvSpPr/>
          <p:nvPr/>
        </p:nvSpPr>
        <p:spPr>
          <a:xfrm>
            <a:off x="0" y="360360"/>
            <a:ext cx="6638760" cy="9267840"/>
          </a:xfrm>
          <a:prstGeom prst="verticalScroll">
            <a:avLst>
              <a:gd name="adj" fmla="val 88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895400" y="961920"/>
            <a:ext cx="2963880" cy="82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orta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arsden Club will be closed on Good Friday,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3</a:t>
            </a:r>
            <a:r>
              <a:rPr b="1" lang="en-US" sz="1600" spc="-1" strike="noStrike" baseline="30000">
                <a:solidFill>
                  <a:srgbClr val="00b050"/>
                </a:solidFill>
                <a:latin typeface="Arial"/>
              </a:rPr>
              <a:t>rd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Apr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Easter Monday,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6</a:t>
            </a:r>
            <a:r>
              <a:rPr b="1" lang="en-US" sz="1600" spc="-1" strike="noStrike" baseline="30000">
                <a:solidFill>
                  <a:srgbClr val="00b05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Apr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nzac Day, we organize a fundraiser for the Marsden Club this year. One of our lovely members, Margaret P., handmade beautiful poppies and we will offer them to you for a donation ($5–or more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Please, let us know if you want to have one. Your support is much appreci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f our staff members lost her glasses last Thursday 2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ebruary 2015. They are BOSS prescription glasses with brown frames and a light beige on the inside of the frames. It would be great if you could check if they came accidently home with you. Thank you!</a:t>
            </a:r>
            <a:br>
              <a:rPr sz="1600"/>
            </a:br>
            <a:r>
              <a:rPr b="1" i="1" lang="en-US" sz="1600" spc="-1" strike="noStrike">
                <a:solidFill>
                  <a:srgbClr val="6b6bcf"/>
                </a:solidFill>
                <a:latin typeface="Arial"/>
              </a:rPr>
              <a:t>Invit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‘ Anja’s ‘Farewell Morning Tea’, Tuesday 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ril 2015, 10:30am (R.S.V.P.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will leave the Marsden Club after nearly 7 years. All the best for all of you. Thanks and take care. (I’m going home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5"/>
          <p:cNvSpPr/>
          <p:nvPr/>
        </p:nvSpPr>
        <p:spPr>
          <a:xfrm>
            <a:off x="1015920" y="380880"/>
            <a:ext cx="56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Lucida Calligraphy"/>
              </a:rPr>
              <a:t>Newsletter March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7"/>
          <p:cNvSpPr/>
          <p:nvPr/>
        </p:nvSpPr>
        <p:spPr>
          <a:xfrm>
            <a:off x="735120" y="9215280"/>
            <a:ext cx="528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Chris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,, Christine Diana, Eileen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 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Loene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 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Tony, Sylvia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 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Priscilla and 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866880" y="8986680"/>
            <a:ext cx="49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Best Wishes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from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 your Marsden Club Tea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33"/>
          <p:cNvSpPr/>
          <p:nvPr/>
        </p:nvSpPr>
        <p:spPr>
          <a:xfrm>
            <a:off x="2066760" y="3106800"/>
            <a:ext cx="295452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4" descr="C:\Program Files\Microsoft Office\MEDIA\CAGCAT10\j0304933.wmf"/>
          <p:cNvPicPr/>
          <p:nvPr/>
        </p:nvPicPr>
        <p:blipFill>
          <a:blip r:embed="rId1"/>
          <a:stretch/>
        </p:blipFill>
        <p:spPr>
          <a:xfrm>
            <a:off x="4643280" y="954000"/>
            <a:ext cx="1175040" cy="1077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C:\Documents and Settings\marsden\Local Settings\Temporary Internet Files\Content.IE5\RCVU52AA\MC900436246[1].png"/>
          <p:cNvPicPr/>
          <p:nvPr/>
        </p:nvPicPr>
        <p:blipFill>
          <a:blip r:embed="rId2"/>
          <a:stretch/>
        </p:blipFill>
        <p:spPr>
          <a:xfrm>
            <a:off x="603360" y="1095480"/>
            <a:ext cx="1304640" cy="1041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Crocheted poppies"/>
          <p:cNvPicPr/>
          <p:nvPr/>
        </p:nvPicPr>
        <p:blipFill>
          <a:blip r:embed="rId3"/>
          <a:stretch/>
        </p:blipFill>
        <p:spPr>
          <a:xfrm>
            <a:off x="4740120" y="2771640"/>
            <a:ext cx="1128960" cy="112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Flag of Germany.svg"/>
          <p:cNvPicPr/>
          <p:nvPr/>
        </p:nvPicPr>
        <p:blipFill>
          <a:blip r:embed="rId4"/>
          <a:stretch/>
        </p:blipFill>
        <p:spPr>
          <a:xfrm>
            <a:off x="4797360" y="87422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http://mouseytong.files.wordpress.com/2012/04/planes-30.jpg?w=560&amp;h=420"/>
          <p:cNvPicPr/>
          <p:nvPr/>
        </p:nvPicPr>
        <p:blipFill>
          <a:blip r:embed="rId5"/>
          <a:stretch/>
        </p:blipFill>
        <p:spPr>
          <a:xfrm>
            <a:off x="757080" y="7392960"/>
            <a:ext cx="1011240" cy="960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tea pot clip art"/>
          <p:cNvPicPr/>
          <p:nvPr/>
        </p:nvPicPr>
        <p:blipFill>
          <a:blip r:embed="rId6"/>
          <a:stretch/>
        </p:blipFill>
        <p:spPr>
          <a:xfrm>
            <a:off x="4651200" y="6611760"/>
            <a:ext cx="1308240" cy="1443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Glasses Clip Art"/>
          <p:cNvPicPr/>
          <p:nvPr/>
        </p:nvPicPr>
        <p:blipFill>
          <a:blip r:embed="rId7"/>
          <a:stretch/>
        </p:blipFill>
        <p:spPr>
          <a:xfrm>
            <a:off x="4603680" y="5410080"/>
            <a:ext cx="1177920" cy="419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http://www.tirimoana.school.nz/Cache/Pictures/2039477/3_thank-you.gif"/>
          <p:cNvPicPr/>
          <p:nvPr/>
        </p:nvPicPr>
        <p:blipFill>
          <a:blip r:embed="rId8"/>
          <a:stretch/>
        </p:blipFill>
        <p:spPr>
          <a:xfrm>
            <a:off x="757080" y="3106800"/>
            <a:ext cx="110016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09:43:07Z</dcterms:created>
  <dc:creator>Thomas Kühne</dc:creator>
  <dc:description/>
  <dc:language>en-US</dc:language>
  <cp:lastModifiedBy>Tony Compton</cp:lastModifiedBy>
  <cp:lastPrinted>2015-03-03T23:32:55Z</cp:lastPrinted>
  <dcterms:modified xsi:type="dcterms:W3CDTF">2015-03-03T23:48:12Z</dcterms:modified>
  <cp:revision>248</cp:revision>
  <dc:subject/>
  <dc:title>Slide 1</dc:title>
</cp:coreProperties>
</file>