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D5F-635B-4A45-BC49-197C9BD7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7C9-0826-4628-A409-24498A90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948-576C-42B0-8684-E87F8C3A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AFE-290D-488B-8B79-BCBC2B28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DF8-321E-43C1-B36B-BC7C49DA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BB7-D295-4770-B4A2-DA5327A0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748-0ADE-48C1-B6B9-82298C94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C34-A258-47E0-BBF0-9CB99ED7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281-BA65-4703-ABBA-0280DB71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8D5-4BB8-476D-84D0-43EFACCE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E7D-7088-4F9B-88C3-D216C2FD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837-224C-41AB-837A-F612AFD7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F0DC-E021-445A-BD7C-E693338012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4"/>
          <p:cNvSpPr/>
          <p:nvPr/>
        </p:nvSpPr>
        <p:spPr>
          <a:xfrm>
            <a:off x="0" y="257040"/>
            <a:ext cx="6638760" cy="9267840"/>
          </a:xfrm>
          <a:prstGeom prst="verticalScroll">
            <a:avLst>
              <a:gd name="adj" fmla="val 88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866960" y="1657440"/>
            <a:ext cx="29638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Welcome back and we hope you all had a wonderful Christmas and New Year </a:t>
            </a:r>
            <a:r>
              <a:rPr b="0" lang="en-N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We want to say “Thank you” very much for your Christmas Cards, donations and good wishes. 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We really do appreciate th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b6bcf"/>
                </a:solidFill>
                <a:latin typeface="Comic Sans MS"/>
              </a:rPr>
              <a:t>Rem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llington Anniversary Day is on </a:t>
            </a: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Monday 19th January 2015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Waitangi Day is on </a:t>
            </a: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Friday 6</a:t>
            </a:r>
            <a:r>
              <a:rPr b="1" i="1" lang="en-US" sz="16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 February 2015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Marsden Club will be </a:t>
            </a: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close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n those day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75d1"/>
                </a:solidFill>
                <a:latin typeface="Comic Sans MS"/>
              </a:rPr>
              <a:t>Summer i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you have a sun hat at home that you would like to bring in, please feel free to do 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enjoy spending time outside on these lovely d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1015920" y="295200"/>
            <a:ext cx="56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Calligraphy"/>
              </a:rPr>
              <a:t>Newsletter Jan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7"/>
          <p:cNvSpPr/>
          <p:nvPr/>
        </p:nvSpPr>
        <p:spPr>
          <a:xfrm>
            <a:off x="658800" y="8474040"/>
            <a:ext cx="53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Chris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, Christine, Diana, Eileen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Loene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Tony, Sylvia</a:t>
            </a:r>
            <a:r>
              <a:rPr b="1" i="1" lang="en-NZ" sz="1800" spc="-1" strike="noStrike">
                <a:solidFill>
                  <a:srgbClr val="000000"/>
                </a:solidFill>
                <a:latin typeface="Kunstler Script"/>
              </a:rPr>
              <a:t>, </a:t>
            </a:r>
            <a:r>
              <a:rPr b="1" lang="en-NZ" sz="1800" spc="-1" strike="noStrike">
                <a:solidFill>
                  <a:srgbClr val="000000"/>
                </a:solidFill>
                <a:latin typeface="Kunstler Script"/>
              </a:rPr>
              <a:t>Priscilla and 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765000" y="7918560"/>
            <a:ext cx="49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Best Wishes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your Marsden Club Te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33"/>
          <p:cNvSpPr/>
          <p:nvPr/>
        </p:nvSpPr>
        <p:spPr>
          <a:xfrm>
            <a:off x="2066760" y="3106800"/>
            <a:ext cx="295452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6" descr="C:\Documents and Settings\marsden\Local Settings\Temporary Internet Files\Content.IE5\FJ62WBIZ\MPj04331360000[1].jpg"/>
          <p:cNvPicPr/>
          <p:nvPr/>
        </p:nvPicPr>
        <p:blipFill>
          <a:blip r:embed="rId1"/>
          <a:stretch/>
        </p:blipFill>
        <p:spPr>
          <a:xfrm>
            <a:off x="747720" y="4454640"/>
            <a:ext cx="1052640" cy="1122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C:\Documents and Settings\Marsden\Local Settings\Temporary Internet Files\Content.IE5\H9JZUOH0\MC900092641[1].wmf"/>
          <p:cNvPicPr/>
          <p:nvPr/>
        </p:nvPicPr>
        <p:blipFill>
          <a:blip r:embed="rId2"/>
          <a:stretch/>
        </p:blipFill>
        <p:spPr>
          <a:xfrm>
            <a:off x="1438200" y="1006560"/>
            <a:ext cx="385776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:\Documents and Settings\marsden\Local Settings\Temporary Internet Files\Content.IE5\4L7SOGS3\MC900444920[1].jpg"/>
          <p:cNvPicPr/>
          <p:nvPr/>
        </p:nvPicPr>
        <p:blipFill>
          <a:blip r:embed="rId3"/>
          <a:stretch/>
        </p:blipFill>
        <p:spPr>
          <a:xfrm>
            <a:off x="4905360" y="1455840"/>
            <a:ext cx="843120" cy="1092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C:\Documents and Settings\marsden\Local Settings\Temporary Internet Files\Content.IE5\XJZVADEM\MP900443889[1].jpg"/>
          <p:cNvPicPr/>
          <p:nvPr/>
        </p:nvPicPr>
        <p:blipFill>
          <a:blip r:embed="rId4"/>
          <a:stretch/>
        </p:blipFill>
        <p:spPr>
          <a:xfrm>
            <a:off x="985680" y="2462040"/>
            <a:ext cx="81468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C:\Documents and Settings\marsden\Local Settings\Temporary Internet Files\Content.IE5\4L7SOGS3\MC900105220[1].wmf"/>
          <p:cNvPicPr/>
          <p:nvPr/>
        </p:nvPicPr>
        <p:blipFill>
          <a:blip r:embed="rId5"/>
          <a:stretch/>
        </p:blipFill>
        <p:spPr>
          <a:xfrm>
            <a:off x="861840" y="1504800"/>
            <a:ext cx="1062360" cy="84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C:\Documents and Settings\marsden\Local Settings\Temporary Internet Files\Content.IE5\IN84T3W4\MC900434465[1].wmf"/>
          <p:cNvPicPr/>
          <p:nvPr/>
        </p:nvPicPr>
        <p:blipFill>
          <a:blip r:embed="rId6"/>
          <a:stretch/>
        </p:blipFill>
        <p:spPr>
          <a:xfrm>
            <a:off x="963720" y="5688000"/>
            <a:ext cx="1123920" cy="69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C:\Documents and Settings\marsden\Local Settings\Temporary Internet Files\Content.IE5\IN84T3W4\MP900443932[1].jpg"/>
          <p:cNvPicPr/>
          <p:nvPr/>
        </p:nvPicPr>
        <p:blipFill>
          <a:blip r:embed="rId7"/>
          <a:stretch/>
        </p:blipFill>
        <p:spPr>
          <a:xfrm>
            <a:off x="4764240" y="6232680"/>
            <a:ext cx="969840" cy="64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C:\Documents and Settings\marsden\Local Settings\Temporary Internet Files\Content.IE5\GFEH0T30\MC900434475[1].wmf"/>
          <p:cNvPicPr/>
          <p:nvPr/>
        </p:nvPicPr>
        <p:blipFill>
          <a:blip r:embed="rId8"/>
          <a:stretch/>
        </p:blipFill>
        <p:spPr>
          <a:xfrm>
            <a:off x="4718160" y="2900520"/>
            <a:ext cx="120780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43:07Z</dcterms:created>
  <dc:creator>Thomas Kühne</dc:creator>
  <dc:description/>
  <dc:language>en-US</dc:language>
  <cp:lastModifiedBy>Tony Compton</cp:lastModifiedBy>
  <cp:lastPrinted>2015-01-06T20:25:28Z</cp:lastPrinted>
  <dcterms:modified xsi:type="dcterms:W3CDTF">2015-01-06T20:27:09Z</dcterms:modified>
  <cp:revision>223</cp:revision>
  <dc:subject/>
  <dc:title>Slide 1</dc:title>
</cp:coreProperties>
</file>